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AC53-722E-4A9B-9462-8886068AC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, maintaining body temperature, contracting muscles, maintaining brain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60-70% of the energy a human body uses in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J/m2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MR is affected by age, gender, growth &amp; development, muscle mass (e.g., more fat = lower BMR), health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http://www.vrp.com/neuroendocrine-support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manuelsweb.com/ped_dose_nomo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port-fitness-advisor.com/lactate-thresh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272-3B95-4AC4-AC38-FA64251F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4CE-26EB-4FEE-B428-E9AE7E56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BF1-45B9-4869-9DA4-86843848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536-2965-4478-BA39-759A43D8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5406-D243-4A0C-ACFC-5392E583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735-961B-4E5B-9541-998102CA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60B-9086-491F-99EF-4C9F1586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FB8-E915-4214-A224-9D8FE0F0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5B1-8429-48BF-9A83-9DDB141E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F9E-CB0D-43AE-80FC-3C1F0915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15D-58DE-42E1-A3BD-891C97F1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AC9-6382-497C-B5FD-10A86FDE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F8D5-F76F-496D-B27F-520AE455A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MR, Lactate Thres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 of Metabolism &amp;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al Metabolic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bolic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amount of E consumed by an organism in a given time (overall rate of aerobic &amp; anaerobic respiration re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al metabolic rate (BMR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metabolic rate at rest (kJ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MR and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77960" y="1981080"/>
            <a:ext cx="578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87520" y="1981080"/>
            <a:ext cx="6167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ate Thres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tate threshold (L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value of exercise intensity at which blood lactate concentration begins to increase shar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improves blood circulation and oxygen delivery, which results in an increase in lactate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ate Thres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82560" y="1981080"/>
            <a:ext cx="597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5:06:32Z</dcterms:created>
  <dc:creator>rubina khan</dc:creator>
  <dc:description/>
  <dc:language>en-US</dc:language>
  <cp:lastModifiedBy>rubina khan</cp:lastModifiedBy>
  <dcterms:modified xsi:type="dcterms:W3CDTF">2012-10-24T10:37:57Z</dcterms:modified>
  <cp:revision>39</cp:revision>
  <dc:subject/>
  <dc:title>BMR, VO2 max, Lactate Threshold</dc:title>
</cp:coreProperties>
</file>